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425E-53CA-48F2-9FC8-0CC9084CD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3184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3184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4D74-C368-4EA5-B80D-8BAD14DB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3184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145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3184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145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4C2A-3FE7-4E72-ABF2-299A20D8C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3184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5984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8748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3184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75984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8748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8094-1127-40BA-AD2E-90A81745B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315D-09D5-4A48-B6E1-3D13EE498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3184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6785-4557-4F0F-98F8-31CEA27C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3184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E15B-94C6-4EA5-B042-86C86665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3184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45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2B1B-E9FC-428A-BDD4-3C2D9DC1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F132-F857-4044-9DC8-D156643B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099800" y="685800"/>
            <a:ext cx="779292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B251-64F0-4F75-A116-C74C01DE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3184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145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3184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8507-B70D-4D9B-8B4E-BABBA101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3184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A45F-FD0A-4573-ADBB-97012323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3184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145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1145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DB56-BAC5-443B-8CEB-E35297D2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3184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45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3184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7F9F-26F0-47C0-9FF5-B5E5D3A0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3184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3184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99FE-A675-4022-9AEC-57046204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3184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145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3184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1145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64B1-1710-4BEB-BC00-CB70EC5A9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3184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75984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8748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3184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75984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38748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FE78-0C21-4C11-B01E-A6237D981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3184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BCB9-81A9-476E-BC64-7896A104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3184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45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D88F-3C0C-418D-8B78-5B6CBB87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7EAA-AA26-42C1-95F8-9C9B79D8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99800" y="685800"/>
            <a:ext cx="779292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E6B3-4DC3-40A8-9F0B-A1B6E757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3184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45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3184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B849-A44E-45DB-9FC8-CEC90315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3184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45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145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6E5F-CB04-4685-AE9C-9D400471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3184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145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3184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BBF8-EF06-47BD-B821-7F1DB693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66840" y="94608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49160" y="94608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90680" y="136836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60400" y="136836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320" y="12952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11360" y="8380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92040" y="1628640"/>
            <a:ext cx="8226360" cy="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3184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1493-F577-4D03-AFBB-33307E4D53E1}" type="slidenum"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05520" cy="61740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3"/>
          <a:stretch/>
        </p:blipFill>
        <p:spPr>
          <a:xfrm>
            <a:off x="8001000" y="76320"/>
            <a:ext cx="990720" cy="44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1828800"/>
            <a:ext cx="9009000" cy="1052640"/>
            <a:chOff x="0" y="1828800"/>
            <a:chExt cx="9009000" cy="1052640"/>
          </a:xfrm>
        </p:grpSpPr>
        <p:grpSp>
          <p:nvGrpSpPr>
            <p:cNvPr id="51" name=""/>
            <p:cNvGrpSpPr/>
            <p:nvPr/>
          </p:nvGrpSpPr>
          <p:grpSpPr>
            <a:xfrm>
              <a:off x="290520" y="1936800"/>
              <a:ext cx="711360" cy="474840"/>
              <a:chOff x="290520" y="1936800"/>
              <a:chExt cx="71136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290520" y="193680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73560" y="193680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414360" y="2359080"/>
              <a:ext cx="737640" cy="474840"/>
              <a:chOff x="414360" y="2359080"/>
              <a:chExt cx="737640" cy="474840"/>
            </a:xfrm>
          </p:grpSpPr>
          <p:sp>
            <p:nvSpPr>
              <p:cNvPr id="55" name=""/>
              <p:cNvSpPr/>
              <p:nvPr/>
            </p:nvSpPr>
            <p:spPr>
              <a:xfrm>
                <a:off x="414360" y="235908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3000" y="235908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0" y="22860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35040" y="182880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316080" y="26510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Franklin Gothic Boo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Franklin Gothic Boo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FA9B-207B-4A7F-ADDA-F189849755BB}" type="slidenum">
              <a:rPr b="0" lang="en-US" sz="1400" spc="-1" strike="noStrike">
                <a:solidFill>
                  <a:srgbClr val="1c1c1c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28600" y="420840"/>
            <a:ext cx="8610480" cy="1042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371600" algn="ctr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828800" algn="ctr"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Franklin Gothic Medium"/>
              </a:rPr>
              <a:t>Energy Aware Modeling Demo</a:t>
            </a:r>
            <a:endParaRPr b="0" lang="en-US" sz="40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219320" y="2895120"/>
            <a:ext cx="67816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Accellera SLDS-Rosetta Committee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Information and Telecommunication Technology Center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University of Kansa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The Adelaide Rosetta Project (TARP), Adelaide University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23960" y="2313000"/>
            <a:ext cx="8115120" cy="3935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019240" y="2362320"/>
            <a:ext cx="1143000" cy="7617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4840" y="2057400"/>
            <a:ext cx="27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mponent modeled for de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38360" y="2313000"/>
            <a:ext cx="5335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70160" y="58672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DMA Receiver Block Modeled</a:t>
            </a:r>
            <a:endParaRPr b="0" lang="en-US" sz="2800" spc="-1" strike="noStrike">
              <a:solidFill>
                <a:srgbClr val="333399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3048120" y="2438280"/>
            <a:ext cx="2797560" cy="2380320"/>
            <a:chOff x="3048120" y="2438280"/>
            <a:chExt cx="2797560" cy="2380320"/>
          </a:xfrm>
        </p:grpSpPr>
        <p:sp>
          <p:nvSpPr>
            <p:cNvPr id="201" name=""/>
            <p:cNvSpPr/>
            <p:nvPr/>
          </p:nvSpPr>
          <p:spPr>
            <a:xfrm>
              <a:off x="3952080" y="4114800"/>
              <a:ext cx="1893600" cy="70380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W Resampl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ower Mo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05320" y="2438280"/>
              <a:ext cx="106668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048120" y="449568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at the demo does…</a:t>
            </a:r>
            <a:endParaRPr b="0" lang="en-US" sz="2800" spc="-1" strike="noStrike">
              <a:solidFill>
                <a:srgbClr val="333399"/>
              </a:solidFill>
              <a:latin typeface="Franklin Gothic Medium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85560" y="1981080"/>
            <a:ext cx="4462200" cy="398880"/>
            <a:chOff x="385560" y="1981080"/>
            <a:chExt cx="4462200" cy="398880"/>
          </a:xfrm>
        </p:grpSpPr>
        <p:sp>
          <p:nvSpPr>
            <p:cNvPr id="206" name=""/>
            <p:cNvSpPr/>
            <p:nvPr/>
          </p:nvSpPr>
          <p:spPr>
            <a:xfrm>
              <a:off x="385560" y="1981080"/>
              <a:ext cx="1666800" cy="39888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ower Mo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70480" y="1981080"/>
              <a:ext cx="2177280" cy="3988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sampler Mo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1219320" y="2438280"/>
            <a:ext cx="1703160" cy="2354760"/>
            <a:chOff x="1219320" y="2438280"/>
            <a:chExt cx="1703160" cy="2354760"/>
          </a:xfrm>
        </p:grpSpPr>
        <p:sp>
          <p:nvSpPr>
            <p:cNvPr id="209" name=""/>
            <p:cNvSpPr/>
            <p:nvPr/>
          </p:nvSpPr>
          <p:spPr>
            <a:xfrm>
              <a:off x="1255680" y="4089240"/>
              <a:ext cx="1666800" cy="70380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W Specif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ower Mo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19320" y="2438280"/>
              <a:ext cx="30456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136880" y="2438280"/>
            <a:ext cx="1905840" cy="1313640"/>
            <a:chOff x="1136880" y="2438280"/>
            <a:chExt cx="1905840" cy="1313640"/>
          </a:xfrm>
        </p:grpSpPr>
        <p:sp>
          <p:nvSpPr>
            <p:cNvPr id="212" name=""/>
            <p:cNvSpPr/>
            <p:nvPr/>
          </p:nvSpPr>
          <p:spPr>
            <a:xfrm>
              <a:off x="1600200" y="2438280"/>
              <a:ext cx="2286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36880" y="3048120"/>
              <a:ext cx="1905840" cy="70380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MOS Specif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ower Mo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124080" y="2438280"/>
            <a:ext cx="3074760" cy="1313640"/>
            <a:chOff x="3124080" y="2438280"/>
            <a:chExt cx="3074760" cy="1313640"/>
          </a:xfrm>
        </p:grpSpPr>
        <p:sp>
          <p:nvSpPr>
            <p:cNvPr id="215" name=""/>
            <p:cNvSpPr/>
            <p:nvPr/>
          </p:nvSpPr>
          <p:spPr>
            <a:xfrm>
              <a:off x="3951720" y="3048120"/>
              <a:ext cx="2247120" cy="70380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MOS Resampl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ower Mo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038480" y="2438280"/>
              <a:ext cx="2286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24080" y="34290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752040" y="4965840"/>
            <a:ext cx="453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Start with power and Resampler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6800" y="5286240"/>
            <a:ext cx="276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Write CMOS power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5360" y="5591160"/>
            <a:ext cx="544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Derive CMOS Resampler power model using inte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6800" y="5940360"/>
            <a:ext cx="292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Write software power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5720" y="6276960"/>
            <a:ext cx="56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Derive software Resampler power model using inte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5480" y="1828800"/>
            <a:ext cx="351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wer models are derived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derstanding the inte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tween technology and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904000" y="3048120"/>
            <a:ext cx="2359440" cy="1744920"/>
            <a:chOff x="5904000" y="3048120"/>
            <a:chExt cx="2359440" cy="1744920"/>
          </a:xfrm>
        </p:grpSpPr>
        <p:sp>
          <p:nvSpPr>
            <p:cNvPr id="225" name=""/>
            <p:cNvSpPr/>
            <p:nvPr/>
          </p:nvSpPr>
          <p:spPr>
            <a:xfrm>
              <a:off x="6747480" y="4089240"/>
              <a:ext cx="1171440" cy="70380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valu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04000" y="444492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92000" y="3048120"/>
              <a:ext cx="1171440" cy="70380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valu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288120" y="337824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219320" y="16444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rived Software Power Model</a:t>
            </a:r>
            <a:endParaRPr b="0" lang="en-US" sz="28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82800" y="4038120"/>
            <a:ext cx="456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Terms generated to reflect software specific power calculation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"/>
          <p:cNvSpPr/>
          <p:nvPr/>
        </p:nvSpPr>
        <p:spPr>
          <a:xfrm>
            <a:off x="780120" y="2057400"/>
            <a:ext cx="6570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cet sw_power(Vcc :: design posreal is 3.3; leak :: design posreal)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lculateOpActivity(opSet :: sequence(label)) :: posreal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(opSet == nil) then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se case head(opSet) i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+ -&gt; 0.4 * Vcc | - -&gt; 0.35 * Vcc | not -&gt; 0.27 * Vcc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-&gt; 0.1 * Vcc | =&gt; -&gt; 0.7 * Vcc | and -&gt; 0.3 * Vc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 case + calculateOpActivity(tl(opSet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 A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: leakage = l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crete_projec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ity = calculateOpActivity(=, =&gt;, %, =, ', =&gt;,=, -, and, =, ', =, '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1: p' = activity + leakag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 facet sw_pow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5028840" y="3657600"/>
            <a:ext cx="60948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200040" y="4648320"/>
            <a:ext cx="16002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197360" y="1644480"/>
            <a:ext cx="72338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tvector12::subtype(bitvector) is sel(x::bitvector | #x = 1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tMaxResampleRate(rate::integer)::integer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se rate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 -&gt; 6 | 8 -&gt; 6 | 7 -&gt; 8 | 12 -&gt; 5 | 13 -&gt; 3 | other -&gt;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 case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crement_count(count,maximum::integer)::integer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(count &gt;= maximum) then 0 else count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 if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cet resampler(I,Q::in bitvector12;clk::in bit;modRate:: design integ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resampled,Qresampled::out bitvector12)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unt,maximum::integ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 discr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tMax:maximum=getMaxResampleRate(modRat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tcount:(%clk) =&gt; (count' = increment_count(count,maximum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ample:(count = maximum - 1)=&gt; (Iresampled'=I) and (Qresampled' =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 facet resamp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ystem Models</a:t>
            </a:r>
            <a:endParaRPr b="0" lang="en-US" sz="2800" spc="-1" strike="noStrike">
              <a:solidFill>
                <a:srgbClr val="333399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061640" y="1771560"/>
            <a:ext cx="65235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cet cmos_resampler(I,Q:: in bitvector12;clk::in bi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Rate:: in integ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resampled,Qresampled::out bitvector1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ak::design posreal) i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1: DandP(resampler(I, Q, clk, modRate, Iresampled, Qresampled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mos_power(leak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 facet cmos_resampl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cet sw_resampler(I,Q:: in bitvector12;clk::in b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Rate:: in integ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resampled,Qresampled::out bitvector1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cc,leak::design posreal)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1: DandP(resampler(I, Q, clk, modRate, Iresampled, Qresampled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w_power(Vcc, leak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 facet sw_resampl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ower / System Interactions</a:t>
            </a:r>
            <a:endParaRPr b="0" lang="en-US" sz="2800" spc="-1" strike="noStrike">
              <a:solidFill>
                <a:srgbClr val="333399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99800" y="990360"/>
            <a:ext cx="779292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omain Organization</a:t>
            </a:r>
            <a:endParaRPr b="0" lang="en-US" sz="28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240" name=""/>
          <p:cNvSpPr/>
          <p:nvPr/>
        </p:nvSpPr>
        <p:spPr>
          <a:xfrm>
            <a:off x="4333320" y="167652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278280" y="2590920"/>
            <a:ext cx="4449960" cy="2120760"/>
            <a:chOff x="278280" y="2590920"/>
            <a:chExt cx="4449960" cy="2120760"/>
          </a:xfrm>
        </p:grpSpPr>
        <p:sp>
          <p:nvSpPr>
            <p:cNvPr id="242" name=""/>
            <p:cNvSpPr/>
            <p:nvPr/>
          </p:nvSpPr>
          <p:spPr>
            <a:xfrm>
              <a:off x="1585800" y="289548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continuo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66280" y="2895480"/>
              <a:ext cx="97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discre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415600" y="3657600"/>
              <a:ext cx="148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discrete-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94520" y="4343400"/>
              <a:ext cx="12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finite-s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8280" y="3657600"/>
              <a:ext cx="178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continuous-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578960" y="434340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frequ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285640" y="2590920"/>
              <a:ext cx="685800" cy="380880"/>
            </a:xfrm>
            <a:prstGeom prst="line">
              <a:avLst/>
            </a:prstGeom>
            <a:ln cap="sq" w="1260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52680" y="2590920"/>
              <a:ext cx="381240" cy="304560"/>
            </a:xfrm>
            <a:prstGeom prst="line">
              <a:avLst/>
            </a:prstGeom>
            <a:ln cap="sq" w="1260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1371600" y="3276720"/>
              <a:ext cx="533520" cy="380880"/>
            </a:xfrm>
            <a:prstGeom prst="line">
              <a:avLst/>
            </a:prstGeom>
            <a:ln cap="sq" w="1260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209680" y="3352680"/>
              <a:ext cx="0" cy="990720"/>
            </a:xfrm>
            <a:prstGeom prst="line">
              <a:avLst/>
            </a:prstGeom>
            <a:ln cap="sq" w="1260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3048120" y="3276720"/>
              <a:ext cx="380880" cy="380880"/>
            </a:xfrm>
            <a:prstGeom prst="line">
              <a:avLst/>
            </a:prstGeom>
            <a:ln cap="sq" w="1260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886200" y="3276720"/>
              <a:ext cx="228600" cy="990360"/>
            </a:xfrm>
            <a:prstGeom prst="line">
              <a:avLst/>
            </a:prstGeom>
            <a:ln cap="sq" w="1260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1044360" y="4038480"/>
            <a:ext cx="4732200" cy="1602000"/>
            <a:chOff x="1044360" y="4038480"/>
            <a:chExt cx="4732200" cy="1602000"/>
          </a:xfrm>
        </p:grpSpPr>
        <p:sp>
          <p:nvSpPr>
            <p:cNvPr id="255" name=""/>
            <p:cNvSpPr/>
            <p:nvPr/>
          </p:nvSpPr>
          <p:spPr>
            <a:xfrm>
              <a:off x="1044360" y="525780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R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504880" y="5272200"/>
              <a:ext cx="77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digi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20880" y="5272200"/>
              <a:ext cx="21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sequential-mach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1371240" y="4724280"/>
              <a:ext cx="685800" cy="53352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2895120" y="4038480"/>
              <a:ext cx="228600" cy="121932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91120" y="4724280"/>
              <a:ext cx="380880" cy="60984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412360" y="2057400"/>
            <a:ext cx="4609440" cy="520560"/>
            <a:chOff x="2412360" y="2057400"/>
            <a:chExt cx="4609440" cy="520560"/>
          </a:xfrm>
        </p:grpSpPr>
        <p:sp>
          <p:nvSpPr>
            <p:cNvPr id="262" name=""/>
            <p:cNvSpPr/>
            <p:nvPr/>
          </p:nvSpPr>
          <p:spPr>
            <a:xfrm>
              <a:off x="2412360" y="2209680"/>
              <a:ext cx="137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f01"/>
                  </a:solidFill>
                  <a:latin typeface="Arial"/>
                </a:rPr>
                <a:t>state-ba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50120" y="2209680"/>
              <a:ext cx="147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f01"/>
                  </a:solidFill>
                  <a:latin typeface="Arial"/>
                </a:rPr>
                <a:t>signal-ba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3724200" y="2057400"/>
              <a:ext cx="609120" cy="228600"/>
            </a:xfrm>
            <a:prstGeom prst="line">
              <a:avLst/>
            </a:prstGeom>
            <a:ln cap="sq" w="1260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867200" y="2057400"/>
              <a:ext cx="532800" cy="228600"/>
            </a:xfrm>
            <a:prstGeom prst="line">
              <a:avLst/>
            </a:prstGeom>
            <a:ln cap="sq" w="1260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7690680" y="213372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it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man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521480" y="354960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del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24080" y="5029200"/>
            <a:ext cx="13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2133720"/>
            <a:ext cx="71629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2819520"/>
            <a:ext cx="71629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4952880"/>
            <a:ext cx="71629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686480" y="32004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57600" y="320040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race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181480" y="2666880"/>
            <a:ext cx="609840" cy="53352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172200" y="2666880"/>
            <a:ext cx="76320" cy="53352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00760" y="528156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ynchron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05520" y="3581280"/>
            <a:ext cx="1447560" cy="167652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9328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omain Interactions</a:t>
            </a:r>
            <a:endParaRPr b="0" lang="en-US" sz="28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279" name=""/>
          <p:cNvSpPr/>
          <p:nvPr/>
        </p:nvSpPr>
        <p:spPr>
          <a:xfrm>
            <a:off x="4333320" y="167652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85800" y="289548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266280" y="28954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r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15600" y="365760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rete-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94520" y="434340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-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78280" y="365760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ous-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78960" y="43434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2285640" y="2590920"/>
            <a:ext cx="685800" cy="38088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352680" y="2590920"/>
            <a:ext cx="381240" cy="30456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371600" y="3276720"/>
            <a:ext cx="533520" cy="38088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09680" y="3352680"/>
            <a:ext cx="0" cy="99072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048120" y="3276720"/>
            <a:ext cx="380880" cy="38088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86200" y="3276720"/>
            <a:ext cx="228600" cy="99036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044360" y="5257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04880" y="527220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20880" y="5272200"/>
            <a:ext cx="21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tial-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1371240" y="4724280"/>
            <a:ext cx="685800" cy="53352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2895120" y="4038480"/>
            <a:ext cx="228600" cy="121932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191120" y="4724280"/>
            <a:ext cx="380880" cy="60984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412720" y="220968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550480" y="22096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3724200" y="2057400"/>
            <a:ext cx="609840" cy="22860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67200" y="2057400"/>
            <a:ext cx="533520" cy="22860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71600" y="220968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Ext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880" y="2133720"/>
            <a:ext cx="71629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2819520"/>
            <a:ext cx="71629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4952880"/>
            <a:ext cx="71629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86480" y="32004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457600" y="320040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e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5181480" y="2666880"/>
            <a:ext cx="609840" cy="53352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172200" y="2666880"/>
            <a:ext cx="76320" cy="53352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02200" y="528156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05520" y="3581280"/>
            <a:ext cx="1447560" cy="167652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056720" y="327672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Homomorphis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4419720" y="3657600"/>
            <a:ext cx="457200" cy="60948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00200" y="4038480"/>
            <a:ext cx="228600" cy="30492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1219320" y="3962520"/>
            <a:ext cx="457200" cy="38088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2057400" y="3809880"/>
            <a:ext cx="380880" cy="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013520" y="426708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f01"/>
                </a:solidFill>
                <a:latin typeface="Arial"/>
              </a:rPr>
              <a:t>Partial Morphis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057400" y="3962520"/>
            <a:ext cx="457200" cy="0"/>
          </a:xfrm>
          <a:prstGeom prst="line">
            <a:avLst/>
          </a:prstGeom>
          <a:ln cap="sq" w="1260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3809880" y="3352680"/>
            <a:ext cx="76320" cy="914400"/>
          </a:xfrm>
          <a:prstGeom prst="line">
            <a:avLst/>
          </a:prstGeom>
          <a:ln cap="sq" w="1260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3962160" y="4724280"/>
            <a:ext cx="75960" cy="609840"/>
          </a:xfrm>
          <a:prstGeom prst="line">
            <a:avLst/>
          </a:prstGeom>
          <a:ln cap="sq" w="1260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3124080" y="4724280"/>
            <a:ext cx="457200" cy="533520"/>
          </a:xfrm>
          <a:prstGeom prst="line">
            <a:avLst/>
          </a:prstGeom>
          <a:ln cap="sq" w="1260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9328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racking Systems-Level Issues</a:t>
            </a:r>
            <a:endParaRPr b="0" lang="en-US" sz="28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323" name=""/>
          <p:cNvSpPr/>
          <p:nvPr/>
        </p:nvSpPr>
        <p:spPr>
          <a:xfrm>
            <a:off x="7076520" y="167652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329000" y="289548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09480" y="28954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r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58800" y="365760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rete-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237720" y="434340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-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021480" y="365760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ous-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22160" y="43434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5028840" y="2590920"/>
            <a:ext cx="68580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95880" y="2590920"/>
            <a:ext cx="381240" cy="3045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4114800" y="3276720"/>
            <a:ext cx="53352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952880" y="3352680"/>
            <a:ext cx="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5791320" y="3276720"/>
            <a:ext cx="38088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629400" y="3276720"/>
            <a:ext cx="228600" cy="9903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787560" y="5257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248080" y="527220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364080" y="5272200"/>
            <a:ext cx="21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tial-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114440" y="4724280"/>
            <a:ext cx="685800" cy="5335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5638320" y="4038480"/>
            <a:ext cx="228600" cy="12193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934320" y="4724280"/>
            <a:ext cx="380880" cy="6098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155920" y="220968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6467400" y="2057400"/>
            <a:ext cx="60984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00400" y="4952880"/>
            <a:ext cx="5334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4038480"/>
            <a:ext cx="22860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3962520" y="3962520"/>
            <a:ext cx="45720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4800600" y="3809880"/>
            <a:ext cx="38088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800600" y="3962520"/>
            <a:ext cx="4572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6553080" y="3352680"/>
            <a:ext cx="76320" cy="9144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6705360" y="4724280"/>
            <a:ext cx="75960" cy="6098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5867280" y="4724280"/>
            <a:ext cx="457200" cy="5335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200400" y="2666880"/>
            <a:ext cx="5334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00400" y="2133720"/>
            <a:ext cx="5334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796560" y="220968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4647960" y="2362320"/>
            <a:ext cx="533160" cy="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3428640" y="2590920"/>
            <a:ext cx="685800" cy="38088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2361960" y="3276720"/>
            <a:ext cx="533160" cy="38088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626840" y="290988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tinuous-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19200" y="365760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t-time-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3580920" y="3124080"/>
            <a:ext cx="762120" cy="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2438280" y="3809880"/>
            <a:ext cx="609840" cy="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86320" y="435780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equency-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3668400" y="4510080"/>
            <a:ext cx="609480" cy="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86000" y="3962520"/>
            <a:ext cx="609480" cy="45720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015640" y="52578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F-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3200040" y="5410080"/>
            <a:ext cx="609480" cy="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2655720" y="4724280"/>
            <a:ext cx="609840" cy="53352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osetta and Systems Level Design</a:t>
            </a:r>
            <a:endParaRPr b="0" lang="en-US" sz="32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3184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ing heterogeneity is critical to systems level desig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ain specific modeling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functional view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aints and requirement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level solutions can help address heterogeneity issue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ons between modeling domain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ions and morphisms between model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etta provides semantics and tools for integrating heterogeneous systems specification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studies and examples demonstrate effectivenes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ore Information</a:t>
            </a:r>
            <a:endParaRPr b="0" lang="en-US" sz="32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3184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etta language informatio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ation and Tools at http://www.sldl.org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 tracking at http://bugzilla.ittc.ku.edu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etta standardizatio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weekly teleconference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eda.org/slds-rosetta/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ct Dr. Perry Alexander alex@eda.org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etta event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torials at FDL’02 and HDLCon’03 (tent.)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C BoF Session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nual Rosetta Workshop following DAC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monstration</a:t>
            </a:r>
            <a:endParaRPr b="0" lang="en-US" sz="28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3184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Demonstration Goal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Address a prototypical embedded system or subsystem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Write specifications of functional and constraint model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Demonstration interaction between models from different semantic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Demonstrate prototypical analysis activitie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lected Target System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TDMA communications subsystem common in embedded system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Model functional and energy related requirement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23960" y="2313000"/>
            <a:ext cx="8115120" cy="3935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88680" y="19810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DMA Receiver Block</a:t>
            </a:r>
            <a:endParaRPr b="0" lang="en-US" sz="2800" spc="-1" strike="noStrike">
              <a:solidFill>
                <a:srgbClr val="333399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452520" y="1905120"/>
            <a:ext cx="8386560" cy="520200"/>
            <a:chOff x="452520" y="1905120"/>
            <a:chExt cx="8386560" cy="520200"/>
          </a:xfrm>
        </p:grpSpPr>
        <p:sp>
          <p:nvSpPr>
            <p:cNvPr id="110" name=""/>
            <p:cNvSpPr/>
            <p:nvPr/>
          </p:nvSpPr>
          <p:spPr>
            <a:xfrm>
              <a:off x="5041800" y="1905120"/>
              <a:ext cx="1828800" cy="27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DMA Rosetta 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00400" y="1905120"/>
              <a:ext cx="1676520" cy="27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MOS Power 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10280" y="1905120"/>
              <a:ext cx="1828800" cy="27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oftware Power 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2520" y="1905120"/>
              <a:ext cx="2152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Define facet models f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Individual domai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50360" y="3276720"/>
            <a:ext cx="7244280" cy="685800"/>
            <a:chOff x="450360" y="3276720"/>
            <a:chExt cx="7244280" cy="685800"/>
          </a:xfrm>
        </p:grpSpPr>
        <p:sp>
          <p:nvSpPr>
            <p:cNvPr id="115" name=""/>
            <p:cNvSpPr/>
            <p:nvPr/>
          </p:nvSpPr>
          <p:spPr>
            <a:xfrm>
              <a:off x="4398120" y="3352680"/>
              <a:ext cx="1119600" cy="276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MOS TD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387840" y="3352680"/>
              <a:ext cx="1306800" cy="276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oftware TD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0360" y="3276720"/>
              <a:ext cx="3042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ombine interacting facet mode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to represent compon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8" name=""/>
            <p:cNvCxnSpPr>
              <a:stCxn id="115" idx="2"/>
              <a:endCxn id="119" idx="0"/>
            </p:cNvCxnSpPr>
            <p:nvPr/>
          </p:nvCxnSpPr>
          <p:spPr>
            <a:xfrm>
              <a:off x="4957560" y="3627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0" name=""/>
            <p:cNvCxnSpPr>
              <a:stCxn id="116" idx="2"/>
              <a:endCxn id="121" idx="0"/>
            </p:cNvCxnSpPr>
            <p:nvPr/>
          </p:nvCxnSpPr>
          <p:spPr>
            <a:xfrm flipH="1">
              <a:off x="7039800" y="3627000"/>
              <a:ext cx="252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2" name=""/>
          <p:cNvGrpSpPr/>
          <p:nvPr/>
        </p:nvGrpSpPr>
        <p:grpSpPr>
          <a:xfrm>
            <a:off x="450360" y="3962520"/>
            <a:ext cx="7495920" cy="1219320"/>
            <a:chOff x="450360" y="3962520"/>
            <a:chExt cx="7495920" cy="1219320"/>
          </a:xfrm>
        </p:grpSpPr>
        <p:sp>
          <p:nvSpPr>
            <p:cNvPr id="123" name=""/>
            <p:cNvSpPr/>
            <p:nvPr/>
          </p:nvSpPr>
          <p:spPr>
            <a:xfrm>
              <a:off x="4146480" y="4572000"/>
              <a:ext cx="1622520" cy="27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MOS Power 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33960" y="3962520"/>
              <a:ext cx="1447560" cy="3808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roj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136560" y="4572000"/>
              <a:ext cx="1809720" cy="27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oftware Power 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16560" y="3962520"/>
              <a:ext cx="1447920" cy="3808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roj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0360" y="4191120"/>
              <a:ext cx="2658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Project to analysis domain 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support predictive analy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6" name=""/>
            <p:cNvCxnSpPr>
              <a:stCxn id="119" idx="4"/>
              <a:endCxn id="123" idx="0"/>
            </p:cNvCxnSpPr>
            <p:nvPr/>
          </p:nvCxnSpPr>
          <p:spPr>
            <a:xfrm>
              <a:off x="4957560" y="4343040"/>
              <a:ext cx="10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7" name=""/>
            <p:cNvCxnSpPr>
              <a:stCxn id="121" idx="4"/>
              <a:endCxn id="124" idx="0"/>
            </p:cNvCxnSpPr>
            <p:nvPr/>
          </p:nvCxnSpPr>
          <p:spPr>
            <a:xfrm>
              <a:off x="7040160" y="4343040"/>
              <a:ext cx="252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23" idx="2"/>
              <a:endCxn id="129" idx="0"/>
            </p:cNvCxnSpPr>
            <p:nvPr/>
          </p:nvCxnSpPr>
          <p:spPr>
            <a:xfrm>
              <a:off x="4957560" y="484668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2"/>
              <a:endCxn id="131" idx="0"/>
            </p:cNvCxnSpPr>
            <p:nvPr/>
          </p:nvCxnSpPr>
          <p:spPr>
            <a:xfrm flipH="1">
              <a:off x="7039800" y="4846680"/>
              <a:ext cx="252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2" name=""/>
          <p:cNvGrpSpPr/>
          <p:nvPr/>
        </p:nvGrpSpPr>
        <p:grpSpPr>
          <a:xfrm>
            <a:off x="447120" y="5702040"/>
            <a:ext cx="7246440" cy="990360"/>
            <a:chOff x="447120" y="5702040"/>
            <a:chExt cx="7246440" cy="990360"/>
          </a:xfrm>
        </p:grpSpPr>
        <p:sp>
          <p:nvSpPr>
            <p:cNvPr id="133" name=""/>
            <p:cNvSpPr/>
            <p:nvPr/>
          </p:nvSpPr>
          <p:spPr>
            <a:xfrm>
              <a:off x="4318560" y="6335640"/>
              <a:ext cx="3375000" cy="276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HOOSE IMPLEMENTATION TECHNOLO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47120" y="6172200"/>
              <a:ext cx="314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Trade-off analysis is possible ear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in the systems design pro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29" idx="5"/>
              <a:endCxn id="133" idx="0"/>
            </p:cNvCxnSpPr>
            <p:nvPr/>
          </p:nvCxnSpPr>
          <p:spPr>
            <a:xfrm>
              <a:off x="5389200" y="5702040"/>
              <a:ext cx="618120" cy="63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31" idx="3"/>
              <a:endCxn id="133" idx="0"/>
            </p:cNvCxnSpPr>
            <p:nvPr/>
          </p:nvCxnSpPr>
          <p:spPr>
            <a:xfrm flipH="1">
              <a:off x="6006600" y="5702040"/>
              <a:ext cx="602640" cy="63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7" name=""/>
          <p:cNvGrpSpPr/>
          <p:nvPr/>
        </p:nvGrpSpPr>
        <p:grpSpPr>
          <a:xfrm>
            <a:off x="452160" y="2179800"/>
            <a:ext cx="7472520" cy="1173240"/>
            <a:chOff x="452160" y="2179800"/>
            <a:chExt cx="7472520" cy="1173240"/>
          </a:xfrm>
        </p:grpSpPr>
        <p:sp>
          <p:nvSpPr>
            <p:cNvPr id="138" name=""/>
            <p:cNvSpPr/>
            <p:nvPr/>
          </p:nvSpPr>
          <p:spPr>
            <a:xfrm>
              <a:off x="6583320" y="2629080"/>
              <a:ext cx="914400" cy="3808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ter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00720" y="2629080"/>
              <a:ext cx="914400" cy="3808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ter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0" name=""/>
            <p:cNvCxnSpPr>
              <a:stCxn id="111" idx="2"/>
              <a:endCxn id="139" idx="1"/>
            </p:cNvCxnSpPr>
            <p:nvPr/>
          </p:nvCxnSpPr>
          <p:spPr>
            <a:xfrm>
              <a:off x="4038480" y="2179800"/>
              <a:ext cx="596160" cy="50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stCxn id="110" idx="2"/>
              <a:endCxn id="139" idx="7"/>
            </p:cNvCxnSpPr>
            <p:nvPr/>
          </p:nvCxnSpPr>
          <p:spPr>
            <a:xfrm flipH="1">
              <a:off x="5281200" y="2179800"/>
              <a:ext cx="675360" cy="50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10" idx="2"/>
              <a:endCxn id="138" idx="1"/>
            </p:cNvCxnSpPr>
            <p:nvPr/>
          </p:nvCxnSpPr>
          <p:spPr>
            <a:xfrm>
              <a:off x="5955840" y="2179800"/>
              <a:ext cx="761400" cy="50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12" idx="2"/>
              <a:endCxn id="138" idx="7"/>
            </p:cNvCxnSpPr>
            <p:nvPr/>
          </p:nvCxnSpPr>
          <p:spPr>
            <a:xfrm flipH="1">
              <a:off x="7364160" y="2179800"/>
              <a:ext cx="560880" cy="50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39" idx="4"/>
              <a:endCxn id="115" idx="0"/>
            </p:cNvCxnSpPr>
            <p:nvPr/>
          </p:nvCxnSpPr>
          <p:spPr>
            <a:xfrm>
              <a:off x="4957560" y="3009960"/>
              <a:ext cx="10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5" name=""/>
            <p:cNvCxnSpPr>
              <a:stCxn id="138" idx="4"/>
              <a:endCxn id="116" idx="0"/>
            </p:cNvCxnSpPr>
            <p:nvPr/>
          </p:nvCxnSpPr>
          <p:spPr>
            <a:xfrm>
              <a:off x="7040160" y="3009960"/>
              <a:ext cx="252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452160" y="2606760"/>
              <a:ext cx="282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Interactions define impact 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design on energy consum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49280" y="5181480"/>
            <a:ext cx="7200720" cy="609840"/>
            <a:chOff x="449280" y="5181480"/>
            <a:chExt cx="7200720" cy="609840"/>
          </a:xfrm>
        </p:grpSpPr>
        <p:sp>
          <p:nvSpPr>
            <p:cNvPr id="129" name=""/>
            <p:cNvSpPr/>
            <p:nvPr/>
          </p:nvSpPr>
          <p:spPr>
            <a:xfrm>
              <a:off x="4348080" y="5181480"/>
              <a:ext cx="1219320" cy="6098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naly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31040" y="5181480"/>
              <a:ext cx="1218960" cy="6098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naly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9280" y="5257800"/>
              <a:ext cx="317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Analysis using both simulation 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analytic techniqu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ystems Level Power Analysis Flow</a:t>
            </a:r>
            <a:endParaRPr b="0" lang="en-US" sz="2800" spc="-1" strike="noStrike">
              <a:solidFill>
                <a:srgbClr val="333399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fining the Interaction</a:t>
            </a:r>
            <a:endParaRPr b="0" lang="en-US" sz="2800" spc="-1" strike="noStrike">
              <a:solidFill>
                <a:srgbClr val="333399"/>
              </a:solidFill>
              <a:latin typeface="Franklin Gothic Medium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828800" y="2057400"/>
            <a:ext cx="5715000" cy="609480"/>
            <a:chOff x="1828800" y="2057400"/>
            <a:chExt cx="5715000" cy="609480"/>
          </a:xfrm>
        </p:grpSpPr>
        <p:sp>
          <p:nvSpPr>
            <p:cNvPr id="152" name=""/>
            <p:cNvSpPr/>
            <p:nvPr/>
          </p:nvSpPr>
          <p:spPr>
            <a:xfrm>
              <a:off x="1828800" y="2057400"/>
              <a:ext cx="1447920" cy="609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ow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38680" y="2057400"/>
              <a:ext cx="1905120" cy="60948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DMA Fun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352320" y="1981080"/>
            <a:ext cx="2210040" cy="381240"/>
            <a:chOff x="3352320" y="1981080"/>
            <a:chExt cx="2210040" cy="381240"/>
          </a:xfrm>
        </p:grpSpPr>
        <p:sp>
          <p:nvSpPr>
            <p:cNvPr id="155" name=""/>
            <p:cNvSpPr/>
            <p:nvPr/>
          </p:nvSpPr>
          <p:spPr>
            <a:xfrm flipH="1">
              <a:off x="3352320" y="2362320"/>
              <a:ext cx="22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88720" y="1981080"/>
              <a:ext cx="11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Inter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57200" y="2743200"/>
            <a:ext cx="4038480" cy="1295280"/>
            <a:chOff x="457200" y="2743200"/>
            <a:chExt cx="4038480" cy="1295280"/>
          </a:xfrm>
        </p:grpSpPr>
        <p:sp>
          <p:nvSpPr>
            <p:cNvPr id="158" name=""/>
            <p:cNvSpPr/>
            <p:nvPr/>
          </p:nvSpPr>
          <p:spPr>
            <a:xfrm>
              <a:off x="3048120" y="3429000"/>
              <a:ext cx="1447560" cy="609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W Pow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7200" y="3429000"/>
              <a:ext cx="1523880" cy="609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MOS Pow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1676520" y="2743200"/>
              <a:ext cx="1523880" cy="609480"/>
              <a:chOff x="1676520" y="2743200"/>
              <a:chExt cx="1523880" cy="609480"/>
            </a:xfrm>
          </p:grpSpPr>
          <p:sp>
            <p:nvSpPr>
              <p:cNvPr id="161" name=""/>
              <p:cNvSpPr/>
              <p:nvPr/>
            </p:nvSpPr>
            <p:spPr>
              <a:xfrm flipH="1">
                <a:off x="1676520" y="2743200"/>
                <a:ext cx="45720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971800" y="2743200"/>
                <a:ext cx="22860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981440" y="2819520"/>
                <a:ext cx="1073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Arial"/>
                  </a:rPr>
                  <a:t>Exten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4" name=""/>
          <p:cNvGrpSpPr/>
          <p:nvPr/>
        </p:nvGrpSpPr>
        <p:grpSpPr>
          <a:xfrm>
            <a:off x="2057040" y="2590920"/>
            <a:ext cx="4586040" cy="990360"/>
            <a:chOff x="2057040" y="2590920"/>
            <a:chExt cx="4586040" cy="990360"/>
          </a:xfrm>
        </p:grpSpPr>
        <p:sp>
          <p:nvSpPr>
            <p:cNvPr id="165" name=""/>
            <p:cNvSpPr/>
            <p:nvPr/>
          </p:nvSpPr>
          <p:spPr>
            <a:xfrm flipH="1">
              <a:off x="2057040" y="2590920"/>
              <a:ext cx="3352680" cy="9903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4572000" y="2743200"/>
              <a:ext cx="990720" cy="7621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12240" y="2971800"/>
              <a:ext cx="1230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Infer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Intera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747720" y="4479840"/>
            <a:ext cx="47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Define functional and basic power domain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5720" y="4800600"/>
            <a:ext cx="458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Define interaction between function and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0680" y="5105520"/>
            <a:ext cx="679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Define technology specific power models by specializing power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6440" y="5454720"/>
            <a:ext cx="668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Infer interactions between function and new technology power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7880" y="5791320"/>
            <a:ext cx="693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Perform trade-off studies at the systems level fo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echnology speci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ation that extends the basic power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36040" y="1905120"/>
            <a:ext cx="52909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main power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, nominal, leakage::posre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ity::posre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lculateOpActivity(opSet::sequence(label))::posre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 a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 state_based_semantics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1: p' = activity + leakag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 domain pow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ower Domain Model</a:t>
            </a:r>
            <a:endParaRPr b="0" lang="en-US" sz="28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94000" y="1865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Basic Model of Computation for power consumption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Based on activity and state change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Defines the power consumed by a state change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Does not specify the specifics of state change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3352320" y="3580920"/>
            <a:ext cx="167652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733920" y="3047760"/>
            <a:ext cx="12952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85800" y="1905120"/>
            <a:ext cx="5715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cet cmos_power(leak::design posreal)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age_plus::posreal ; usage_minus::posre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age_not::posreal; usage_equal::posre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age_and::posre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lculateOpActivity(opSet::sequence(label)):: posreal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(opSet == nil) then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se case head(opSet)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+" -&gt; 0.2 * usage_plus | "-" -&gt;  0.015 * usage_minus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not" -&gt;  0.01 * usage_not | "=" -&gt;  0.3 * usage_equal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=&gt;" -&gt; 0.04 * usage_equal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and" -&gt; 0.015 * usage_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 case + calculateOpActivity(tl(opSet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 all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: leakage = l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 facet cmos_pow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MOS Power Model</a:t>
            </a:r>
            <a:endParaRPr b="0" lang="en-US" sz="28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94000" y="1865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Extends power domain to specialize for CMO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MoC remains state-based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2133720" y="525780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3962520" y="4267080"/>
            <a:ext cx="137160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1981080"/>
            <a:ext cx="52578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cet sw_power(Vcc,leak::design posreal)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lculateOpActivity(opSet::sequence(label)):: posreal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(opSet == nil) then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se case head(opSet)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+" -&gt; 0.4 * Vcc | "-" -&gt; 0.35 * Vcc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not" -&gt; 0.27 * Vcc | "=" -&gt; 0.1 * Vcc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=&gt;" -&gt; 0.7 * Vcc | "and" -&gt; 0.3 * Vc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 case + calculateOpActivity(tl(opSet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 a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: leakage = l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 facet sw_pow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oftware Power Model</a:t>
            </a:r>
            <a:endParaRPr b="0" lang="en-US" sz="28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94000" y="1865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Extends power domain to specialize for software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MoC remains state-based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057040" y="4419720"/>
            <a:ext cx="30481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4572000" y="3886200"/>
            <a:ext cx="53352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19840" y="3276720"/>
            <a:ext cx="5988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raction DandP(f::discrete; g::power)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gin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crete_to_power: reflect.meta_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g.activity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.calculateOpActivity(reflect.meta_getOperators(f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wer_to_discrete: {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d interaction Dand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99800" y="68580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ower / Function Interaction Model</a:t>
            </a:r>
            <a:endParaRPr b="0" lang="en-US" sz="2800" spc="-1" strike="noStrike">
              <a:solidFill>
                <a:srgbClr val="333399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Models interaction between a discrete state semantics and energy use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08520" indent="-30852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Projects new terms into the power model based on function performed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"/>
          <p:cNvSpPr/>
          <p:nvPr/>
        </p:nvSpPr>
        <p:spPr>
          <a:xfrm>
            <a:off x="5791320" y="3276720"/>
            <a:ext cx="3124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Energy use calculated in terms of operator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Energy use does not affect functional correct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952880" y="3886200"/>
            <a:ext cx="106704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3580920" y="4952520"/>
            <a:ext cx="221004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9T14:42:37Z</dcterms:created>
  <dc:creator>ckong</dc:creator>
  <dc:description/>
  <dc:language>en-US</dc:language>
  <cp:lastModifiedBy>Perry Alexander</cp:lastModifiedBy>
  <dcterms:modified xsi:type="dcterms:W3CDTF">2002-06-06T04:49:03Z</dcterms:modified>
  <cp:revision>57</cp:revision>
  <dc:subject/>
  <dc:title>No Slide Title</dc:title>
</cp:coreProperties>
</file>